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7.wmf" ContentType="image/x-wmf"/>
  <Override PartName="/ppt/media/image8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857-F103-4167-A925-8CDAA1F3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798-DB0E-4372-ABE1-F3BD5556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DB4-E546-4B1B-9F0C-B7C432E6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FAC-F83C-497F-B133-D36069F7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3C7-AFCD-47F1-AD3E-2CAD2168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0BE-6A98-4AE0-A196-C1F39F4E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B08-4E44-40C5-A092-2816272D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124-2596-438B-8AEC-4AA0E6F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676-3315-48CC-B1E8-DE07E566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E3C-2D29-4463-BA83-8C2B40F9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B15-E569-411C-BD9E-EA31F88C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E9A-3636-4E89-82F9-40DAACD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11C0-3A12-4690-8DF3-F00086F6AE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47640" y="333360"/>
            <a:ext cx="5688360" cy="2665080"/>
            <a:chOff x="1547640" y="333360"/>
            <a:chExt cx="5688360" cy="26650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47640" y="333360"/>
              <a:ext cx="568836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07560" y="2173320"/>
              <a:ext cx="31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99"/>
                  </a:solidFill>
                  <a:latin typeface="Arial"/>
                </a:rPr>
                <a:t>Lesson 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95280" y="3141720"/>
            <a:ext cx="820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Danny’s Pl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3880" y="2209680"/>
            <a:ext cx="6019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Poin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89000"/>
            <a:ext cx="889308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Agriculture is all about growing plants an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sing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animals for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农业是关于种植植物和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饲养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动物作为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se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vt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提高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筹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养育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种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饲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on’t you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your voice to m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对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声大气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s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money to buy the house and two hundred acres of 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筹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资金来购买房子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英亩土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s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2,000 acres of wheat and h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种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英亩的小麦和饲料用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8900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earn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more about plants, we plan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some see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了了解更多植物（的知识），我们种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些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learn vi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解到，学，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t is never too late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ea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学习永远不会太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Children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earn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faster than adul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孩子比成人学得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vt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，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How many English words have you learn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你学了多少英语单词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189000"/>
            <a:ext cx="88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some adj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些，几个，常用于肯定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some flowers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一些花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some beds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几张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辨析：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有“一些”之意，都可修饰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与不可数名词，表示不定的数量及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度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于肯定句中，在请求、建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疑问句中也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用于否定、疑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I hav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some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Do you hav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friends in Ameri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8900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76280"/>
            <a:ext cx="842472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在表示建议，反问，请求的疑问句中，或期望得到肯定回答时，多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不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Would you lik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ome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coffe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你要不要来点咖啡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What abou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fruit juice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来点水果汁如何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18900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89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3. Now something new is growing at the top of the ste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现在在茎的顶端正长着一种新的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something new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新的东西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very, some, any, n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e, body, th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合起来的词叫不定代词。不定代词做主语，谓语动词用第三人称单数。当不定代词带有形容词时，形容词放后面，做后置定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omeone important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ill give the students a lecture this afterno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今天下午，一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重要的人物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将给学生们做一场报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18900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89000"/>
            <a:ext cx="86407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at the top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顶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顶端，其反义短语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 the bottom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底部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 (the) top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高处，反义短语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 the foot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脚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Please write your telephone number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t the top of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this pag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请把你的电话号码写在这页纸上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There is a tower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n top of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that high mount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那座高山顶上有座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18900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89000"/>
            <a:ext cx="842472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p   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顶，上面；一流的，顶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Can you see the white hous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n top of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the hil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你能看见山顶上那幢白房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He i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ne of the top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students in his cla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他是班里的一名尖子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注：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on top of the world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高兴到了极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at the top of one’s voice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高声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89000"/>
            <a:ext cx="85690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I’m going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after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my pla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carefully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将仔细照看我的植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aft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照顾；照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 job is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aft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se pati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工作就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照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好这些病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y think about survival. They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aft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ir own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考虑的是生存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关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是自己的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133720" y="838080"/>
            <a:ext cx="4668840" cy="1022400"/>
            <a:chOff x="2133720" y="838080"/>
            <a:chExt cx="4668840" cy="10224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2133720" y="838080"/>
              <a:ext cx="4668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2482920" y="1101600"/>
              <a:ext cx="410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ffff"/>
                    </a:solidFill>
                    <a:miter/>
                  </a:ln>
                  <a:solidFill>
                    <a:srgbClr val="ffff99"/>
                  </a:solidFill>
                  <a:latin typeface="Arial"/>
                </a:rPr>
                <a:t>Time for Reflection </a:t>
              </a:r>
              <a:endParaRPr b="1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950760" y="3002040"/>
            <a:ext cx="21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t the top o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flower b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ok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urn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2708280"/>
            <a:ext cx="36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……顶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顶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骨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照顾；照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773360"/>
            <a:ext cx="295272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r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efu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1700280"/>
            <a:ext cx="529272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农业；农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盆；壶；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发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茎；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芽；苞；花蕾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发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v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仔细地；小心翼翼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院子；场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832360" cy="143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2728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ords &amp;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106880" cy="5046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27944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2708280"/>
            <a:ext cx="3240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：另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档，点此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48896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have a lot _______ about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rite              B. writ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to write          D. wri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I haven’t ____ in my diary for a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rite             B. wrote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writes           D. wri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2360" y="81108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I. Multiple cho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3560" y="2895480"/>
            <a:ext cx="8892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86200" y="5029200"/>
            <a:ext cx="888840" cy="914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380880"/>
            <a:ext cx="866484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Agriculture is about _____ plants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ising animals for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growing           B. grow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grows               D. to 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______ _______ have taken plac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her homet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Something important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Important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14320" cy="838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814320" cy="838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260280"/>
            <a:ext cx="866448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Ⅱ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.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ew policy promoted the development of a___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ld man likes r_______ rabbits, chickens, dogs and hors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seed I planted s_______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In the fairy tale the frog t_____ _____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19890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gri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852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43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prou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013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urned  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0920" y="260280"/>
            <a:ext cx="866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33360"/>
            <a:ext cx="849636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Something ____ wrong with his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mpu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I have ____________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些趣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tell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I have some clothes __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Mr Wang is confident they'll be abl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 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照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them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 After all they are _______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…顶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their indus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33360"/>
            <a:ext cx="5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1700280"/>
            <a:ext cx="47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thing  inte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99736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w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5120" y="444168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4365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ok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4941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t the top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03640" y="1052640"/>
            <a:ext cx="4176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1828800" cy="1695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6920" y="2708280"/>
            <a:ext cx="78487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Lesson 1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Write a passage about what kind of plant you want to grow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00360" y="62064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Black"/>
              </a:rPr>
              <a:t>Previe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565360"/>
            <a:ext cx="716292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arn the words and phrase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sson 1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Underline the sentences you don’t understand on page 3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189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row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75280" cy="403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88000" y="4724280"/>
            <a:ext cx="86364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90920" y="838080"/>
            <a:ext cx="3962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ink about it!</a:t>
            </a:r>
            <a:endParaRPr b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242244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What is agricul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What kind of plants do you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nt to g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628640"/>
            <a:ext cx="8001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o understand the di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learn some useful words and expressions to talk about how a plant gr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o learn to use indefinite pronou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68360" y="189000"/>
            <a:ext cx="4405320" cy="1138320"/>
            <a:chOff x="2268360" y="189000"/>
            <a:chExt cx="4405320" cy="11383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2268360" y="189000"/>
              <a:ext cx="4405320" cy="11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337200" y="452520"/>
              <a:ext cx="210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bjectiv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6920" y="1052640"/>
            <a:ext cx="7272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ds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agriculture,  seed,   pot,   sprout, carefully,      yard,  stem,  bu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3357720"/>
            <a:ext cx="7632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hr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t the top o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flower b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ok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22623"/>
          <a:stretch/>
        </p:blipFill>
        <p:spPr>
          <a:xfrm>
            <a:off x="7812000" y="620640"/>
            <a:ext cx="100800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" y="193680"/>
            <a:ext cx="37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Read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840" y="985680"/>
            <a:ext cx="891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did Danny and his classmates do to  learn more about pl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y planted some s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at happened after Danny watered the seed of his pl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sprouted a few days later. Soon, it grew  a stem and a lea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" y="193680"/>
            <a:ext cx="37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Read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1268280"/>
            <a:ext cx="891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y will Danny put the pot in the yar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cause his plant can get sunsh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at does Danny want to send to Li M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wants to send some seeds to Li 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480" y="266760"/>
            <a:ext cx="905652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lete the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ud opens up and becomes a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______grows under the ground and gets water from the so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_______is the long thin part of a pl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are parts of a plant. They grow from a stem, from a branch or directly from the ro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119700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18446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3357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0766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3:51:13Z</dcterms:created>
  <dc:creator/>
  <dc:description/>
  <dc:language>en-US</dc:language>
  <cp:lastModifiedBy>PCoS</cp:lastModifiedBy>
  <dcterms:modified xsi:type="dcterms:W3CDTF">2014-03-05T13:51:30Z</dcterms:modified>
  <cp:revision>1</cp:revision>
  <dc:subject/>
  <dc:title>幻灯片 1</dc:title>
</cp:coreProperties>
</file>